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CCD4-242A-4157-AA9A-E5B4E1D03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7B1B-0310-4572-9651-5D17DBD47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36BF-029D-47B9-849A-CBB38B2E6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82BF-6DAD-4834-8F3A-B3E0CEB462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B3BC-9771-4F4B-A4DE-7B8D69A2C5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1C41-6C12-41DE-A72B-BF44BB670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357E-36B0-492B-A0D5-3D0BB5B24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792E-158F-4EB9-AC5C-AC487039F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42D4-F367-44A3-B681-84B980924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E453-3E2F-45D6-88CC-D4B5860EF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0C82-5166-4F09-AC7D-6A30BBC17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3958-D166-4363-9FFB-0C134F624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D244-F4B0-49C3-AC6C-0603E79FAF6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116A-7C1B-4637-AC5D-5BDF33C840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B746-3E3C-4B12-8AA7-D81C745604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FA05-5523-4458-9D65-F0E96D67A2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80EF-CC16-43F9-8ECE-2A73B5206E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4F32-2D8D-4A4F-8EF5-4D5F4C2A97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0985-D288-41CA-AFFD-443CC7A835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12BF-2C2C-4B3D-9A54-E8602BFF84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4476-5CE1-4C11-A108-18C9C67BA76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3E9C-6C2B-4D3E-B3DA-F8B0C66C70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0AF3-40D2-46D5-8B75-2413400D2B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54E9-80A7-474D-AA99-3F9E6B8D4F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8ACA-A42A-439D-9925-DFBA7EAAF7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C546-BC27-414E-A1D8-1FE7805064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BA88-D0A7-4DFF-BB23-C4CF33ECA1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EC0F-634F-45D1-B00C-234DDA64E4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8ECA-2EB4-427F-A721-5041DEA936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52B7-A8EA-41C1-B266-CE3CCB95D3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FEA3-B512-41D5-B598-9B5E668FAF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3936-EFE5-4918-AEE0-8A8350876D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438C-B856-47DD-AA4C-317F62BE6C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6196F-9633-49D6-AFEB-93E61B789A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B576-0995-465A-B41A-53A9B1B61C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A24F-4705-4093-BFD4-5C407FFEEF8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329A-FC76-41C6-BF12-7BC04AC743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9C79-F64E-4898-B423-04E1943907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F83C-3065-4243-BD65-F5E6763705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84CC-0D4A-4254-A7CA-70D9C9D2FF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C93C-5580-48F9-86DC-9B15047604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3DFF-4ACD-4100-91DA-CCCE4D038F0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5C71-45DC-48FA-942D-694CD5D9F3C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81C5-8C58-428D-AA6D-B718ABEEC1A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E060-F5B8-4DE3-8656-563C1D6EE42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21B3-A4F0-4898-8DBA-8E04A1DE266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E33B2-95E7-4FAA-93E7-8F6BEF7C57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B29B-A957-434B-926F-523B063B91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4770-DC16-4842-BDC1-6493A6F55E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881A-9510-4F68-875D-97EC5AD458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3C00-8E69-407F-B63B-0A3FFFC749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9B1C-C529-4052-80CF-44554B517D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0-17T01:07:11Z</dcterms:modified>
  <cp:revision>100</cp:revision>
  <dc:subject/>
  <dc:title>Slide 1</dc:title>
</cp:coreProperties>
</file>