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C051-8615-4491-B771-4AF3E0EE0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4F01-C50E-498B-AB35-3B76BFB54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7B56-ADE8-45A6-964F-F7B0460F2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6BB8-666F-4F2D-8BC9-B5AD10A9C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4EAA-F0DD-4EED-8109-0DDBD18F5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3383-8756-457B-B7E6-5B23707BC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E91B-08DD-4983-A4CC-F16C7E522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0669-D6CB-4330-AB81-A17CFBF86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163F-A2FD-4EF7-8F7B-EDD53C473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2C83-0CA2-431B-B34F-C800DA06B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0251-DD3E-4A06-B462-3574D92C4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C4EA-BEF3-4588-B457-386BC0BDD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947C-D057-4B59-941C-EEC90EEFF39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59EB3-B2F3-4915-AF40-50E910FA21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9525-9068-43EC-828C-B7B158CBDA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436B7-EE89-4FB6-966C-50C2C82EDB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A50A3-83C6-4C57-BC1D-2F066A2329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1AEC0-0278-4646-B19D-C96CA5464C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DC16-51B3-4588-B6D5-747B7DA50C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CC2D-1555-4F6B-B9B7-2609E42BBD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6F31-CB40-4BF0-86DE-61A5B008389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0EC1-7492-41BE-98CD-53946994DD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1F69-1395-4649-8F06-73075127B5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F28C2-3229-4E47-AE18-51F1994324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2F610-F2D1-4495-AEF5-9A66081278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562D-5DA7-41AD-A936-D3551CA708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54A2-9BB8-4CC6-B389-13C52C407D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3C4B-5694-4219-A3E0-61FE1F0B1E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1B9B-BA3F-43FF-836A-24E05D0530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3CF0-DFB0-4C3D-B9AA-00EE7AA56A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83F9-787F-487D-8250-971C5A738E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5F6FB-4230-4EC4-9026-A47CF9EFE1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90AB-DC6E-4AC4-A924-7DC76B7164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2835-C229-40AC-AD27-5E03C5BD0C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9EE01-C012-4939-A9B3-574B993619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9EA9-CCA7-43A3-B193-5E1B204F835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D9D7-5F1F-41A2-9CCD-726195E5C3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F39E-E783-4C35-8284-00C63C21EF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CD068-128F-4881-AC3F-FEC6A292E8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F43-F729-466A-8330-541725E939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6DDA-AEE6-409A-A1FB-7E062317DF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0571-1F53-4DE3-85BC-D21B22A9FF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F2A0-C155-4082-8749-8F30D95F17B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FF5B-255D-494F-81EE-9C64E555CC7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7108-CF4C-4B56-82B2-5344127B80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39F3-F476-4C2F-990F-B721F8611AC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F4AA-A97B-4052-AD13-339EC3E4A1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8344-45F3-4BC1-926E-24F0CFB72C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81B5A-A64D-454E-B36E-C89E083A74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9403-A66B-4BE0-9316-F21C78C8D9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1E96-690D-4207-A769-367D8835EC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08A9-7252-48DF-BAF4-E4FEB592E9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2-11T19:51:05Z</dcterms:modified>
  <cp:revision>101</cp:revision>
  <dc:subject/>
  <dc:title>Slide 1</dc:title>
</cp:coreProperties>
</file>